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958-D494-4F72-A63C-56747FB249D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CD3F-9CAD-4C3B-8649-1D88CF1C97E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554-58C9-45C9-97E6-6BB988FB383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ynn Yarme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571680" y="1447920"/>
            <a:ext cx="118616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Writing and Sharing Readable Cod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Management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28564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y is writing and sharing readable code important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ips for creating readable cod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is code sharing important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285640"/>
            <a:ext cx="11861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producibility of sc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one else can build on your work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et credit in NSF Data Management Plans for work you already do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uch of the debate about code transparency involves the philosophy of science, error validation and research ethics, but our contention is more practical: that the cause of reproducibility is best furthered by focusing on the dissection and understanding of code, a sentiment already appreciated by the growing open-source movement.”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(Ince, et al., 2012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haring your co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714680" y="2285640"/>
            <a:ext cx="1057896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Not at all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ith your advisor and lab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By email if someone ask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On your websit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hrough an Institutional or Domain Repository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s a publication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e Open Research Computation Journ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hrough a code bank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x. Geophysics Source Code Archiv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52092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elvetica Neue Light"/>
              </a:rPr>
              <a:t>Lower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429120" y="862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 Neue Light"/>
              </a:rPr>
              <a:t>Higher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TextBox 5"/>
          <p:cNvSpPr/>
          <p:nvPr/>
        </p:nvSpPr>
        <p:spPr>
          <a:xfrm rot="16200000">
            <a:off x="-1282680" y="54399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 Light"/>
              </a:rPr>
              <a:t>Funder Happines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Left-Right Arrow 6"/>
          <p:cNvSpPr/>
          <p:nvPr/>
        </p:nvSpPr>
        <p:spPr>
          <a:xfrm rot="5400000">
            <a:off x="-1575000" y="5638680"/>
            <a:ext cx="5410080" cy="228600"/>
          </a:xfrm>
          <a:prstGeom prst="leftRightArrow">
            <a:avLst>
              <a:gd name="adj1" fmla="val 50000"/>
              <a:gd name="adj2" fmla="val 49962"/>
            </a:avLst>
          </a:prstGeom>
          <a:gradFill rotWithShape="0">
            <a:gsLst>
              <a:gs pos="0">
                <a:srgbClr val="008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ood coding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58720" y="3200400"/>
            <a:ext cx="118620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haring doesn’t help if no one can read or understand your cod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ips for Readable Co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Use logical, clear names for variables and subroutin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dd explicit comment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Be platform-independent where possibl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ocument the connections to data sets (which code is applied to what data?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Use a consistent versioning method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eader Informa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In the header, include: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uthor nam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Original creation dat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atest revision date with code version number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oftware version number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hort description of the cod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ong description of the cod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4900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atlab Programming Style Guidelin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erl Best Pract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 Coding Conven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nd many others…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71320" y="234900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nel, Juan A.  (2011). Importance of Reviewing the Code.  </a:t>
            </a:r>
            <a:r>
              <a:rPr b="0" i="1" lang="en-US" sz="3600" spc="-1" strike="noStrike">
                <a:solidFill>
                  <a:srgbClr val="606060"/>
                </a:solidFill>
                <a:latin typeface="Helvetica Neue"/>
              </a:rPr>
              <a:t>Communications of the ACM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. Volume 5 (May 1).  Retrieved from: http://cacm.acm.org/magazines/2011/5/107698-the-importance-of-reviewing-the-code/fulltext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arrel C. Ince, Darrel C., Hatton, Leslie, &amp; John Graham-Cumming. (2012). </a:t>
            </a: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he case for open computer programs. </a:t>
            </a:r>
            <a:r>
              <a:rPr b="0" i="1" lang="en-US" sz="3600" spc="-1" strike="noStrike">
                <a:solidFill>
                  <a:srgbClr val="606060"/>
                </a:solidFill>
                <a:latin typeface="Helvetica Neue"/>
              </a:rPr>
              <a:t>Nature. 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482, 485–488 (23 February). doi:10.1038/nature10836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0:32:07Z</dcterms:created>
  <dc:creator/>
  <dc:description/>
  <cp:keywords/>
  <dc:language>en-US</dc:language>
  <cp:lastModifiedBy>Lynn Yarmey</cp:lastModifiedBy>
  <dcterms:modified xsi:type="dcterms:W3CDTF">2012-02-28T01:02:00Z</dcterms:modified>
  <cp:revision>48</cp:revision>
  <dc:subject/>
  <dc:title>ESIP Federation 101</dc:title>
</cp:coreProperties>
</file>